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F5C-CD79-4C56-A4AD-ED13976B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95C-F190-42C3-9C66-B8703538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B7CEA-302B-43ED-8771-D0470B4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40402-375C-487B-91ED-AA74499D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47CA1-06DA-4A86-9B62-4ED4275C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2C13E-97E5-46B0-B7AC-38C7ACB3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36917-7BF3-48BE-BC1C-6C18B9FE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DA231-C871-4CF0-B76E-60FDCBC6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3DC14-803F-497A-A09D-D7316948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144CB-0FB0-479C-9DF8-0DBF4386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850FE-47D4-46E4-A242-893AEF96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92D1C-3DAB-462E-B860-BFBC686B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FD8-BF53-4DC3-9B42-DF56D24D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A67AE-827D-4C25-8BEF-160A6079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E3E0D-1C54-42F3-B9C6-569A31CA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C430F-C6B2-4732-A198-07C044F2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23F77-6487-4BED-9663-01DA333E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30046-320A-47E6-A1A5-9AC29199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4FA1B-C7AD-4D46-81FD-10ACDFF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C0CA4-0D56-4E6E-973E-F3A8B779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3147D-9E15-4E59-B3CF-14695115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ED07E-338D-4078-B8FF-827C8B97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E060A-3466-4772-9541-DF0335ED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6B4-5FE6-441D-8092-AD53342C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FE8DE-6064-4062-9915-0C38D8C7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88807-07ED-4C6B-B39A-F2C9A4DB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CC9A4-513B-4241-A4E3-D624A662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3E796-5632-4948-B37F-B0B831E2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C104A-17E3-4E1C-A6B1-79D9A178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B493D-1A39-48B8-936C-EA1D94F1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572DF-93B2-4E28-ABE6-F4E64270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E141B-791B-4E1A-BA73-76210B68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30E39-27E2-4662-A1CB-02901318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57CD5-BDBF-427A-B5C0-B3E3DC1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B2A8-10F3-41E0-A6FA-A2CB47DE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40510-8ECA-495D-AC17-CC619A28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24A53-857F-42EE-84F6-FE90D4BE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0DD4C-3EFC-40A7-BE8F-E98C21B2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AE28D-8474-46A2-92AC-694AF048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B5ACB-94C7-4B03-A5AE-42B068F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89390-7862-411F-AE02-7C995C63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6B773-40FC-4F16-8B8B-8DD82B01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C2E7E-FD74-4400-A2C3-4C0C3CC9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1B0FD-022B-49A8-9433-A9BAFDB3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B6C5E-8653-4A39-A064-E66B646F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F03C-66F2-492B-A2FC-631BA1CF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15A18-5C11-47CB-AC6B-92A34FA9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7C5BE-1074-4F1F-9311-CBB388E1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7BB52-2485-4EBA-B88B-45E3483C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748B2-B419-4657-A045-BC08E8DE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6018F-E9B5-4613-AE22-56169EE5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E19C8-B7A1-4466-A7CA-872C3187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5C88D-56E9-4D2A-ABD1-F6CEEA7C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700BF-A984-451F-95FA-9691889B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C5189-44F8-454A-B8D3-E7B9AD35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DF1D0-B380-465C-8E46-9B9FA6F3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1110-9485-4F9E-A452-683EF65C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D10BD-40FA-4DDF-84C7-FA890994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0C802-8734-4FE9-951C-4DF39F0C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3D8E1-DA13-4DE9-AF16-465987A2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05758-A24D-48FF-8C52-61A69D72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B9274-EE56-4360-9E39-62FF26CE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AF63D-A4E5-4093-B0A1-C4969099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C8DEC-94F0-44F0-B6CB-451A6670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44B39-931F-468A-AE4D-F15A907E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B7BD7-F976-42E0-8F98-042EEB2B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1D1DE-49B6-4EFA-9E57-8B4B0BB1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F426-398F-47A3-9F74-59F96AA3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FC684-05DF-4A5E-ACAC-769A8153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7ACC5-7834-4217-93B5-9F7090D5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9A62C-DC01-4E2A-A730-5B127125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D4FAB-BA61-496D-AEB8-0D5E436F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E22C2-18AA-4D8A-8E37-A2C11861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F07AB-952F-47A6-A9CE-1D91E781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C23982-9E28-48B0-9881-77912256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FC3FD-AC79-4793-B3FD-58187C16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9F8E21-B325-4970-9A53-E2AACFD8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3BFB68-7928-4773-BB4A-A94B52FF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D4D9-25D5-4427-92DB-EE9CBAC5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FCE02-2A3F-4D95-9557-E0298412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42B0A-67FA-4792-9543-5FBAD905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90C93-B597-4903-8191-EAFAF747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A0EB9-E572-48AA-87E6-85082754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AD8A4-54C5-47B8-9334-CF48C578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C83DBC-BF0F-4917-BC9D-2946A126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BA1DB-2DC4-4AAD-A436-57A14418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12381-B617-4506-B909-88BAF8A8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4674F-9A7E-42F9-94FD-714C2567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FEF52-A47C-4ED3-A326-0E31D1B8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A5DB-D944-4B22-BD6F-C51EB637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D3792F-F6B9-4AF3-826E-71E524DC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B802F8-72C1-40D3-BDA2-A945B2E5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32832-2A08-4B7B-98DA-50433AE4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42803-BC9C-4C3C-8460-090EF0E1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677395-B3F6-4302-8D52-075B0B38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0687BF-140D-45C2-9E4D-9951BB51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A9042D-9A97-4469-8E30-A8C513E6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A3863E-C2EE-4FDC-8EE3-74612037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43838-7160-4B29-9C28-E0646C72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AACFD-C702-403E-BC48-36ED334E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F860-D972-47C7-908D-023DC9DF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747C7-2D60-4FE6-A552-51E0278A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22092-C47B-4190-9AB1-26F8F4FE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6CD3A-9B9C-4F49-84AA-463C9335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6A509-A420-4765-AAD6-09253931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0D85E-449A-4610-8496-2466F307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F9645-1E59-4461-9B7C-424F2689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7EA0E-7A3E-4A38-93B6-0062D749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E8E51-BEC2-49C9-8485-2CD9A58D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9AA7A-1D3E-4D90-8DF7-5A0895CB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B0D52-6016-49BB-868C-543F8A67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921-64EE-48ED-9312-880B9C1D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B587-EA15-408B-966E-F37C6528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F031C-B143-4788-8E2F-B52CF6F2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9EDAE-C8D5-42B8-952C-42C00E3F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47D92-5B8D-4D5E-ADE7-9C17590A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BCDFCB-DD05-44A6-B580-0D0AE7F6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3C90AE-23F4-4F8E-B816-010DAC48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5110C-E4A0-4186-AACF-F60B5D31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472A8-522F-4FC1-AF00-29282081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E96C6-76B0-4B9A-A339-5A773C23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EC9B4-92DC-427A-AE5B-16032CA7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7BB88-9C4A-4871-BB2B-0CDAF7CF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8E4C-3E33-4550-BD42-B9D8753C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6DE42E-6B56-466E-85CC-1D5DD382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C40C5-79AE-4B8E-8867-BC81D68B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161D73-05A1-4E26-AA19-0CC8B457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AB6A7A-8244-425A-A1AD-FB3A2913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805EB1-4D4B-49AD-B187-EB8B8C43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0AAC6-46BC-463E-9EFB-8458BFD2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34A6E-F638-4EE4-A83D-A9DE7D77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31A7A9-3BE6-4AD1-A484-A2693EF0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A8161-DCB3-4045-A3DE-7E278233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0F5B8D-045B-4A63-A173-DE876228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9311-A340-4902-BBCE-C9BA3403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E0C143-329D-4FB2-9AE0-AE712EC3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BDDA2-9CA3-45D2-8F4F-40F1FF08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E9F749-8B1E-44B7-8313-E6B2761A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373361-9EC1-4E49-93D7-31C01815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A7DAF2-C0AA-4E8A-B242-C3EE20D2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9F2E3-B87D-44D7-8231-EF0964B2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623984-59EE-490E-8DAC-53197E91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5B849-E2DF-4AB9-BCED-0E3B6788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B2CDB-BDF9-4F5E-BC11-0F871C93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FC6765-4169-4B9B-B6EC-31B2780F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383F-906B-4E4C-9C51-3348A44A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25F164-EF4F-4DA7-9B88-52A65A9B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EDD58E-2FB9-4DA8-B6B2-D73CD17C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E133D9-5B1A-4757-A741-ADADCC1E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417FE1-AC84-423B-805A-5E0B9BD0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3F8F1-46DF-4387-9A51-77C2B7A3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CC9A9E-8272-4DB3-89F5-A33D79A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329EA5-CF76-45DD-977D-C90C3B61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F85F16-966C-4CDA-96CC-4B1EC439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19086-C163-424A-927A-3DD22235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12FAD-C9C1-4FAE-B141-D9877E40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4315-D88E-4460-857A-FA91DF5D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E571A-9549-4E2B-A11C-F50673C6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DB1CB1-B66B-48A0-9CCF-46DF95EB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06E42-744C-4B0E-A885-D567F31F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6E0B1F-B083-403D-B171-D240118F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377CFE-7F63-4190-A4F7-FE1A2CE3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056E13-F819-42D5-BB77-AA8A87FE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382809-7041-4415-9CC8-7894B6FE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067074-02C6-4F25-BFBD-9E09825A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21919B-A7F1-465C-81C6-579B7BB4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5A7D80-2996-4861-A5C5-E33321CC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8058-D879-458F-93D1-4B406FEB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7EE9D-6F72-4B27-85EE-FCA6543F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8E6324-1ADD-4F4E-94B4-2EE82DC3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EEDFD8-CE25-446D-8CCC-D47E2B77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18FB6-42BA-4585-A2B9-BCF33FA5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14FF-3831-4387-93A5-BDC5A022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11603-F45D-4668-A9D3-93036B01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D21E7-2CC6-48D5-AE9F-61677129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A17-7B07-4E32-B911-7219E0DA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9015D-10F7-4AD8-936F-EF70F2A8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7590-B15C-4810-9948-C72EA256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FAF9D-F7DF-42A0-8750-C6694145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B3B4-A5DF-4498-83D3-96E84496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85C77-A904-4CF8-A5DC-93AAE30F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F19E-7513-4F7A-AE92-2AFB475A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AC6B-7148-4EA3-8C49-305519AC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CB371-CC0B-4891-AAAB-4B929C63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ACC58-4085-4A32-9A87-E18EF9F6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FE7C-DCAC-40E6-85EA-4AD0CB00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FB4-9CC8-4FDB-B0FC-260BA7ED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4B83B-D7D6-4F46-B316-983F0CE4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A9CD2-FC0A-422C-B0BA-56D7AC59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54698-1AE9-49B8-82F9-572001BA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E2112-6C0F-485D-82A8-58444529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72D47-D7B5-4E32-869D-049066F8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BC3F-4187-49FF-8B7C-06FB2C95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A66F0-B4CF-413A-8898-3A8777A9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74A6-8A67-4A0A-9F84-A712BC5E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CD5E6-A3CD-427A-8278-09B6C867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0368D-CFAE-4271-B6E4-6BB5113A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A2B-8566-4DC0-9FED-51F259E8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D8915-1308-46F2-A85A-849B9DEF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63F17-FDB0-4B95-82FB-6BFAE065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910DF-1F64-41E1-B32F-77BEE1D6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E265C-9957-4FE8-82CD-F831B77A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8FB3B-0426-44CB-80C9-7C2C1031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D5EDB-591D-41A3-9D89-803A6338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039CA-401C-43FD-A9BD-FAC019A0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745C7-CE93-4F08-9879-C72F1711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6D879-C976-44DB-BAF9-011A8C48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DB119-1334-4D3A-BA10-FB8DDE1B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73AD-C62D-4F33-8BC1-724D656B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1A300-8A5E-4466-9F3D-C78DDF87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5B50F-CD76-4281-9D93-CC7CEE9C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EC06D-3C9D-4A12-8953-F40C7A09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143ED-F3A0-4843-8AED-C872838A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EC87A-71AA-41B4-B6B5-A6C4B24E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89CC7-5BB5-4435-B8A1-7A441C97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C2401-99EF-43B3-A61A-6D740570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0A78B-0965-4180-A23E-84945AE6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BDC9E-B1A2-4781-AA90-EB8F65A8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51C58-9950-425B-90A2-EBC2DDD1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F09-E57C-48C7-ABC6-49B55B4B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62098-6074-4B36-A6C2-978F6E0C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1F7F1-F5D4-4CF3-8C82-9D32D032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020CA-EF54-4B47-998A-AF03C1B9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27660-A443-430A-A706-B17B3B40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B724C-6756-4C6D-BDC2-A8EAA8D3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0935B-2BB8-4EC3-9C73-4FE34594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6E145-6EC4-4ED4-8BC6-2CFF3C0F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EEFE3-2B66-44CC-B20F-1AF6D9B1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3FAE2-5DDE-4C95-AD3D-05AE9CC5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91E4D-A72F-40D0-B749-C6930F1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E77-6DC9-4CAB-A53D-D7D669E2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0DFAA-E7C8-483A-A31F-E4A578CE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93FB2-2EFF-4FDD-86FE-2BE493BE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DD44B-4503-46C8-959D-2AE6614A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8497C-F095-4FEA-B689-8D23DDDC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81FC4-33E4-4131-B149-FD909FC6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04319-6651-4B9E-8639-46527CB4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4C26A-D305-4E8B-9F13-BBD85046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73F94-7596-4A75-859C-40BABD14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EC0D7-096E-4104-9207-5E8712BE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20D3C-4EF9-4372-8D47-FABA34AF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CA8-ED4D-4607-B9EC-12F82F0F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9200C-AAF1-43FB-B8B0-AAD54979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8893B-0010-40AF-BCCD-4BFB4657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A0C92-E190-49C0-A002-42BD07CD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A61FD-0981-4758-85C0-FA3D7199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F58A8-3A36-42C6-8240-7F8C6F9C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3C1DB-DDDD-4E20-89A6-90A101B5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8D0E9-3F6E-430F-913A-7C523AFF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B2D5C-2FFC-4CF3-AA79-15BBD270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7EC3E-2E4C-4669-8E32-90586C6E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F6BF2-3A11-4BC7-B07B-0384C004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149B-1877-4DFF-BBB9-7580753CFB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4B5D-13DB-40AD-B154-B1A4EF9E95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A692-BBF6-46FF-864C-A7B5EB5D80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6B72-DC53-4E24-B969-1C432922A7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F30F-AA58-41B3-9BA0-6A77B9ECA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5D8F-9483-4BAB-8D1B-113EFF8618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F1FA-4BAD-4AD6-B596-8D37A13253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602F-D324-48D6-BFF2-5DE83A8CED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E42B-747B-46A0-AB98-BE8DD8D75B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直接连接符 8"/>
          <p:cNvSpPr/>
          <p:nvPr/>
        </p:nvSpPr>
        <p:spPr>
          <a:xfrm>
            <a:off x="4206960" y="3930480"/>
            <a:ext cx="730080" cy="0"/>
          </a:xfrm>
          <a:prstGeom prst="line">
            <a:avLst/>
          </a:prstGeom>
          <a:ln w="63360">
            <a:solidFill>
              <a:srgbClr val="3c7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235A-451B-4EEC-B7C0-D42DC17DD5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8B44-D0D8-4A4D-B3AB-28E4E62016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B6AD-C6A0-4480-A6CC-AE8BAA6457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AA1C-29F2-40EC-82B7-423F211D78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4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657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B684-FB32-4D2E-B9E3-7E507023F0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63BB-501B-47EF-93C6-EFADC0E00B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图片 6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62ED-3DAC-429F-AFA0-BE8B01F5B0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8216-1947-4E91-8461-39205A9B04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4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EEE1-8180-44AB-A68F-8E9491707E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E32E-D8A4-47BD-A855-F6491EF1AB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4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DA93-6740-4510-94F8-63ECA07F1D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6C1E-ED44-4436-878A-1A00360631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6229-C008-4ADA-8AB1-4BF722457C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F6ED-7036-44B3-AFF3-C240862365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图片 6" descr=""/>
          <p:cNvPicPr/>
          <p:nvPr/>
        </p:nvPicPr>
        <p:blipFill>
          <a:blip r:embed="rId2"/>
          <a:stretch/>
        </p:blipFill>
        <p:spPr>
          <a:xfrm>
            <a:off x="8604360" y="637236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8" descr=""/>
          <p:cNvPicPr/>
          <p:nvPr/>
        </p:nvPicPr>
        <p:blipFill>
          <a:blip r:embed="rId3"/>
          <a:stretch/>
        </p:blipFill>
        <p:spPr>
          <a:xfrm>
            <a:off x="0" y="637236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AEF-FD52-4137-8555-3AD5EE5489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D572-5B52-450E-B12D-25D66BBB7B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矩形 4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图片 6" descr=""/>
          <p:cNvPicPr/>
          <p:nvPr/>
        </p:nvPicPr>
        <p:blipFill>
          <a:blip r:embed="rId2"/>
          <a:stretch/>
        </p:blipFill>
        <p:spPr>
          <a:xfrm>
            <a:off x="7929720" y="5765760"/>
            <a:ext cx="1214280" cy="109224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8" descr=""/>
          <p:cNvPicPr/>
          <p:nvPr/>
        </p:nvPicPr>
        <p:blipFill>
          <a:blip r:embed="rId3"/>
          <a:stretch/>
        </p:blipFill>
        <p:spPr>
          <a:xfrm>
            <a:off x="0" y="5765760"/>
            <a:ext cx="1214280" cy="109224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D16B-23F1-4B95-9EF1-7CCFBD4180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B9F4-790D-4360-960C-12AC11A2CF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629D-6F05-4FAB-B8F7-0E2A301841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>
            <a:off x="2314440" y="4255920"/>
            <a:ext cx="451008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4185-0819-416E-A79F-FE5452FCB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D492-65B5-473A-BEA3-B031954DB6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D98C-837E-46C9-91FF-BC6BC494F9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DEDE-25C1-4508-8058-6E5A2206CC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5" descr=""/>
          <p:cNvPicPr/>
          <p:nvPr/>
        </p:nvPicPr>
        <p:blipFill>
          <a:blip r:embed="rId2"/>
          <a:stretch/>
        </p:blipFill>
        <p:spPr>
          <a:xfrm>
            <a:off x="0" y="1397160"/>
            <a:ext cx="270972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6434280" y="1397160"/>
            <a:ext cx="270972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矩形 8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bfbfc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C5F6-AF16-4C1E-A639-91291F26E4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2E8E-CB1C-4752-882D-8ED32C89B3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35E5-8A13-405B-A1C2-DC67EF00DD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E351-72B6-48F4-BF99-23221915CD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DC5D-FCEF-441D-9130-85547EB5C9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4ED1-F804-430E-A205-FF748B4F52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5" descr=""/>
          <p:cNvPicPr/>
          <p:nvPr/>
        </p:nvPicPr>
        <p:blipFill>
          <a:blip r:embed="rId2"/>
          <a:stretch/>
        </p:blipFill>
        <p:spPr>
          <a:xfrm>
            <a:off x="5622840" y="2193840"/>
            <a:ext cx="3292560" cy="2470320"/>
          </a:xfrm>
          <a:prstGeom prst="rect">
            <a:avLst/>
          </a:prstGeom>
          <a:ln w="0">
            <a:noFill/>
          </a:ln>
        </p:spPr>
      </p:pic>
      <p:sp>
        <p:nvSpPr>
          <p:cNvPr id="349" name="任意多边形 6"/>
          <p:cNvSpPr/>
          <p:nvPr/>
        </p:nvSpPr>
        <p:spPr>
          <a:xfrm flipH="1">
            <a:off x="0" y="0"/>
            <a:ext cx="5484960" cy="6858000"/>
          </a:xfrm>
          <a:custGeom>
            <a:avLst/>
            <a:gdLst/>
            <a:ahLst/>
            <a:rect l="l" t="t" r="r" b="b"/>
            <a:pathLst>
              <a:path w="7314000" h="6858000">
                <a:moveTo>
                  <a:pt x="1714500" y="0"/>
                </a:moveTo>
                <a:lnTo>
                  <a:pt x="7314000" y="0"/>
                </a:lnTo>
                <a:lnTo>
                  <a:pt x="7314000" y="6858000"/>
                </a:lnTo>
                <a:lnTo>
                  <a:pt x="0" y="6858000"/>
                </a:lnTo>
                <a:lnTo>
                  <a:pt x="1714500" y="0"/>
                </a:lnTo>
                <a:close/>
              </a:path>
            </a:pathLst>
          </a:cu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8" descr=""/>
          <p:cNvPicPr/>
          <p:nvPr/>
        </p:nvPicPr>
        <p:blipFill>
          <a:blip r:embed="rId3"/>
          <a:stretch/>
        </p:blipFill>
        <p:spPr>
          <a:xfrm>
            <a:off x="0" y="637236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4008-12F0-4A6A-ACBD-DCF4370865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EE56-EAA3-47D5-A6D6-23293F7A6B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235240" y="3836880"/>
            <a:ext cx="14875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5441760" y="3836880"/>
            <a:ext cx="1487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图片 28678" descr=""/>
          <p:cNvPicPr/>
          <p:nvPr/>
        </p:nvPicPr>
        <p:blipFill>
          <a:blip r:embed="rId1"/>
          <a:stretch/>
        </p:blipFill>
        <p:spPr>
          <a:xfrm>
            <a:off x="2147760" y="2809800"/>
            <a:ext cx="4781520" cy="71460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28679" descr=""/>
          <p:cNvPicPr/>
          <p:nvPr/>
        </p:nvPicPr>
        <p:blipFill>
          <a:blip r:embed="rId2"/>
          <a:stretch/>
        </p:blipFill>
        <p:spPr>
          <a:xfrm>
            <a:off x="2147760" y="3835440"/>
            <a:ext cx="478152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图片 60429" descr=""/>
          <p:cNvPicPr/>
          <p:nvPr/>
        </p:nvPicPr>
        <p:blipFill>
          <a:blip r:embed="rId1"/>
          <a:stretch/>
        </p:blipFill>
        <p:spPr>
          <a:xfrm>
            <a:off x="204840" y="1809720"/>
            <a:ext cx="8734320" cy="3238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771640" y="4176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7524720" y="47149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图片 59410" descr=""/>
          <p:cNvPicPr/>
          <p:nvPr/>
        </p:nvPicPr>
        <p:blipFill>
          <a:blip r:embed="rId1"/>
          <a:stretch/>
        </p:blipFill>
        <p:spPr>
          <a:xfrm>
            <a:off x="338040" y="2390760"/>
            <a:ext cx="8467920" cy="2076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3203640" y="29242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3267000" y="3294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3203640" y="3664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3213000" y="40435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7894800" y="29242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7380360" y="3357720"/>
            <a:ext cx="360360" cy="247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8"/>
          <a:stretch/>
        </p:blipFill>
        <p:spPr>
          <a:xfrm>
            <a:off x="7451640" y="3735360"/>
            <a:ext cx="3603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图片 58373" descr=""/>
          <p:cNvPicPr/>
          <p:nvPr/>
        </p:nvPicPr>
        <p:blipFill>
          <a:blip r:embed="rId1"/>
          <a:stretch/>
        </p:blipFill>
        <p:spPr>
          <a:xfrm>
            <a:off x="604800" y="1228680"/>
            <a:ext cx="7934400" cy="4400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2906640" y="4172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3132000" y="452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3132000" y="49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3132000" y="5310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6256440" y="4394160"/>
            <a:ext cx="288720" cy="230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6659640" y="4672080"/>
            <a:ext cx="288720" cy="2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图片 57352" descr=""/>
          <p:cNvPicPr/>
          <p:nvPr/>
        </p:nvPicPr>
        <p:blipFill>
          <a:blip r:embed="rId1"/>
          <a:stretch/>
        </p:blipFill>
        <p:spPr>
          <a:xfrm>
            <a:off x="128520" y="2585880"/>
            <a:ext cx="8886960" cy="1686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2411280" y="3059280"/>
            <a:ext cx="865440" cy="320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2340000" y="3429000"/>
            <a:ext cx="576360" cy="3207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2421000" y="3817800"/>
            <a:ext cx="576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0:51:4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